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A11A-6D64-43D0-803A-BA74209AB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48A7-DA70-4BAB-8328-AAA9759C4D8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0864-38FF-4D56-B311-53D6A13018A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C025-DD98-4DE4-95D6-E0B5B1ADF86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F17D-47C9-498E-BB78-EF32F91D3CA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C5CC-5E5C-4B33-959E-9940043F90D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9695-398B-41A2-A078-9598D385C4E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E00A-1A0D-439F-92FA-12C63C2470F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365C-FF8B-4B74-9588-CABF3123B4E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EC06-C7B7-4E08-A564-FAA5AB2486E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C095-2B74-4E98-944B-B80EBA0D19F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5045-8BBA-40D1-92E0-3A4A45C2896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ABEE-F4F1-425C-9424-65D31D82F0C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01D3-CF27-42C9-979D-4E69F5EF1A2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D09A-8C95-4A8D-92FD-72B6C771F52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2169-3460-4D12-878D-74F98C13F94B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57C8-F6A9-4062-92EE-66C1C03488F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F296-2EFA-48F6-BC03-0C2602987BF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F870-3D67-4214-B0C3-62B53C98303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CA9C-1825-4401-8112-53B60E3B12AC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0508-0FC3-4597-B0BA-9F840237136B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F090-E914-450F-A451-CD3A92FDE10B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1877-EB07-42D5-8E67-5344892F9A3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5883-9092-4E0A-8F62-E3752F8C6BF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A975-5B4D-4DAB-9556-E5D1860383F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06EE-9F93-493F-9744-7EB5967E41B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B4E7-29F6-461E-BBF1-4E8A3EC6FAC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E5A-F822-45A6-A63E-6B633FF8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6DC-C493-41AB-9E2F-4F84F8EF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725-4AB2-4D57-922E-06D293D3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A97-5823-4CDF-91FD-86D3553E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B17-7ED4-44B9-A463-C45B29EC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DF3-91FF-4105-AC87-37C861F3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9AB-2DCC-439C-B83F-B5C2FB77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F8A-CB9C-400B-AAC8-F884F25C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03A-6C68-41B3-98FC-80B5A80E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5B4-CB2B-42EE-B5B0-467AC39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FB8-4518-4C97-8D06-7D92909C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952-E9F9-4F3F-9FDD-5CF50D41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710B-CD2D-429F-BC1B-E9E819D637FD}" type="slidenum"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Les temps français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une vue d’ensemble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Composé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À Antibes, nous avons regardé des bateaux en mer, nous nous sommes promenés le long des remparts, puis nous avons visité la marina, où nous avons vu des bateaux de lux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93" name="Picture 6" descr="Antibes 20"/>
          <p:cNvPicPr/>
          <p:nvPr/>
        </p:nvPicPr>
        <p:blipFill>
          <a:blip r:embed="rId2"/>
          <a:stretch/>
        </p:blipFill>
        <p:spPr>
          <a:xfrm>
            <a:off x="1676520" y="1905120"/>
            <a:ext cx="2819160" cy="211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tibes 28"/>
          <p:cNvPicPr/>
          <p:nvPr/>
        </p:nvPicPr>
        <p:blipFill>
          <a:blip r:embed="rId3"/>
          <a:stretch/>
        </p:blipFill>
        <p:spPr>
          <a:xfrm>
            <a:off x="5410080" y="1866960"/>
            <a:ext cx="27972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rebuchet MS"/>
              </a:rPr>
              <a:t>Passé Composé...traduisez...</a:t>
            </a:r>
            <a:endParaRPr b="1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Nous avons écouté le nouveau CD d’Abd Al Malik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Je suis sorti au resto hier soir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s’est levé de bonne heure aujourd’hui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We listened to the new CD of Abd Al Malik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 went out to a restaurant last nigh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He got up early today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Le Présent du verbe venir + de + l’infinitif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le passé immédia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a phrase “Je viens de rentrer” exprime l’idée d’un retour immédia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Si l’on se sert de l’Imparfait de venir, l’idée est d’une action passée juste avant une autre action passé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 vient d’acheter une énorme pizza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08" name="Picture 5" descr="pizza"/>
          <p:cNvPicPr/>
          <p:nvPr/>
        </p:nvPicPr>
        <p:blipFill>
          <a:blip r:embed="rId2"/>
          <a:stretch/>
        </p:blipFill>
        <p:spPr>
          <a:xfrm>
            <a:off x="1981080" y="1981080"/>
            <a:ext cx="2132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Je viens de voir un bon fil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Nous venons de passer nos examens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venait de sortir quand je suis arrivée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s venaient d’apprendre le passé récen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’ve just seen a good movie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We’ve just sat our exams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He had just gone out when I arrived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They had just learnt the recent pas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rés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our le présent, il faut bien connaître les trois conjugaisons principales; les verbes en -er, -ir et -re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faut savoir que pour les verbes en -ir, il y a 2 sortes; les verbes comme finir et ceux comme dormir. 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Et, bien sûr, il faut apprendre par coeur les verbes irréguliers les plus communs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Exprime: ce qui se passe maintenant ou généralemen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rebuchet MS"/>
              </a:rPr>
              <a:t>Les verbes réguliers au Présent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rebuchet MS"/>
              </a:rPr>
              <a:t>Quelles sont les terminaisons?</a:t>
            </a:r>
            <a:endParaRPr b="1" lang="en-US" sz="3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er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ir comme finir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ir comme dormir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r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e, -es, -e, 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ons, -ez, -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is, -is, -i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issons, -issez, -iss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s, -s, -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ons, -ez, -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s, -s, -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ons, -ez, -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66"/>
                </a:solidFill>
                <a:latin typeface="Trebuchet MS"/>
              </a:rPr>
              <a:t>Les verbes irréguliers au Présent - quelles sont les formes...?</a:t>
            </a:r>
            <a:endParaRPr b="1" lang="en-US" sz="37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avoir: je, il,vous, 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être: je, nous, v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faire: tu, v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aller: je, elle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enir: tu, vous, elle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evoir: je, n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savoir: tu, v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pouvoir: je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ouloir: on, nous, elle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oir: tu, n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ire: je, vous, elle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ai, a, avez, 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suis, sommes, êtes, s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fais, faites, f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ais, va, v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iens, venez, vienn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ois, devons, doiv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sais, savez, sav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peux, peuv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eut, voulons, veul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ois, voyons, voi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is, dites, dis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Proch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Présent du verbe aller + l’infinitif d’un autre verb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le futur immédia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Par exemple: Demain, je vais aller au cin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Proch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À Cannes, nous allons regarder les artistes de la plag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Nous allons aussi, peut–être, nous baigner dans la mer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36" name="Picture 6" descr="Cannes beach art"/>
          <p:cNvPicPr/>
          <p:nvPr/>
        </p:nvPicPr>
        <p:blipFill>
          <a:blip r:embed="rId2"/>
          <a:stretch/>
        </p:blipFill>
        <p:spPr>
          <a:xfrm>
            <a:off x="4724280" y="2666880"/>
            <a:ext cx="2925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Tous les temps.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lus-que-parfai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mparfai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assé Composé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    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résen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Futur Proche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Futur Simple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Futur Antérieur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Proche...traduisez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Next year I’m going to go to uni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is evening, we’re going to study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On Saturday morning, they’re going to sleep in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’année prochaine, je vais aller à la fac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2120" indent="-3121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Ce soir, nous allons étudier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2120" indent="-3121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Samedi matin, ils vont faire la grasse-matiné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Simpl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Forme: radical + terminaisons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rebuchet MS"/>
              </a:rPr>
              <a:t>Radicaux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: pour les verbes en -er et en -ir, c’est l’infinitif et pour ceux en -re, enlever le 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Pour les autres, il faut apprendre la form ‘je’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rebuchet MS"/>
              </a:rPr>
              <a:t>Terminaisons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: -ai, -as, -a, -ons, -ez, -ont 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(comme le verbe avoir!)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Exprime une  action ou un état à l’avenir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Dans la phrase “Nous irons en France”, ‘irons’ est au Futur Simpl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rebuchet MS"/>
              </a:rPr>
              <a:t>Futur Simple...traduisez...</a:t>
            </a:r>
            <a:endParaRPr b="1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Après avoir quitté l’école, j’irai à l’étranger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travaillerai comme serveur pour gagner de l’argent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passerai du temps en Franc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reviendrai en NZ un jour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After leaving school, I will go abroa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ill work as a waiter to earn some money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ill spend some time in Franc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ill come back to NZ one day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Simpl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À Nice, je me promènerai sur la Promenade des Anglais et je prendrai le déjeuner au soleil, sur la plage. Je m’amuserai bien dans le Midi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55" name="Picture 8" descr="Sur la Prom, Nice 4 Jan 09"/>
          <p:cNvPicPr/>
          <p:nvPr/>
        </p:nvPicPr>
        <p:blipFill>
          <a:blip r:embed="rId2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6" name="Picture 9" descr="Déjeuner 16 Jan 4"/>
          <p:cNvPicPr/>
          <p:nvPr/>
        </p:nvPicPr>
        <p:blipFill>
          <a:blip r:embed="rId3"/>
          <a:stretch/>
        </p:blipFill>
        <p:spPr>
          <a:xfrm>
            <a:off x="5257800" y="1981080"/>
            <a:ext cx="2819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Antérieur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Futur Simple de l’auxiliaire + PP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une action future qui aura lieu avant une autre action futur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 “En 2012, il aura fini ses études”, ‘il aura fini’ est au Futur Antérieur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rebuchet MS"/>
              </a:rPr>
              <a:t>Le Futur Antérieur...traduisez</a:t>
            </a:r>
            <a:endParaRPr b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Avant de partir à l’étranger, j’aurai travaillé pendant un an au moins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Après qu’elle sera partie, nous nous coucherons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Il sortira quand il aura fini son travail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Demain à cette heure, nous serons arrivés en France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Before going overseas, I’ll have worked for a year at least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After she’s left, we’ll go to be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He’ll go out, when he’s finished his work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omorrow at this time, we will have arrived in Franc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Le Futur Antérieur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vant de quitter Paris, nous aurons visité l’Obélisque, le Grand Palais et la Tour Eiffel, parmi d’autres attractions célèbre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70" name="Picture 6" descr="famous landmarks"/>
          <p:cNvPicPr/>
          <p:nvPr/>
        </p:nvPicPr>
        <p:blipFill>
          <a:blip r:embed="rId2"/>
          <a:stretch/>
        </p:blipFill>
        <p:spPr>
          <a:xfrm>
            <a:off x="3200400" y="182880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Le Plus-que-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Imparfait de l’auxiliaire (avoir ou être) + Participe Passé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une action passée antérieure à une autre action passé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 “J’avais fini quand vous êtes arrivé”, “j’avais fini” est au Plus-que-parfai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n anglais, c’est “had done/had been doing”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 faut se rappeler des verbes avec êtr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lus-que-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s étaient sortis de l’école militaire et avaient regardé le monument de la paix quand ils se sont rendus compte que la Tour Eiffel se trouvait juste derrière...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64" name="Picture 6" descr="école militaire 13 Jan"/>
          <p:cNvPicPr/>
          <p:nvPr/>
        </p:nvPicPr>
        <p:blipFill>
          <a:blip r:embed="rId2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" name="Picture 7" descr="peace monument"/>
          <p:cNvPicPr/>
          <p:nvPr/>
        </p:nvPicPr>
        <p:blipFill>
          <a:blip r:embed="rId3"/>
          <a:stretch/>
        </p:blipFill>
        <p:spPr>
          <a:xfrm>
            <a:off x="1270080" y="4114800"/>
            <a:ext cx="2641680" cy="198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lus-que-parfait - traduisez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Elle m’a demandé si j’avais vu le fil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s étaient déjà descendus quand je suis entré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s’était déjà levé quand sa mère l’a appelé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She asked me if I’d seen the fil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They had already come downstairs when I came in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He had already got up when his mother called hi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Im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prendre la forme ‘nous’ du Présent, enlever ‘-ons’, puis ajouter des terminaisons: ais, ais, ait, ions, iez, aient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: 1) une description au passé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2) une action continue au passé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3) une habitude passé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 “Elle parlait au téléphone quand je suis entré”, “elle parlait” est à l’Imparfai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Im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Quand j’étais à La Rochelle, il faisait beau tous les jour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e ciel était bleu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J’aimais me promener près des deux tour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79" name="Picture 5" descr="Tours de la Chaine et st Nicholas 6 jan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62120" y="2286000"/>
            <a:ext cx="3809880" cy="2857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Imparfait - traduisez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Each year we would go to Stewart Island on holiday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t never used to rain where we live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She was wearing a beautiful, white dress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as playing on the computer when my friend arrive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Chaque année, nous allions en vacances à l’Île Stewart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l ne pleuvait jamais là où nous habitions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Elle portait une belle robe blanch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jouais à l’ordinateur, quand mon copain est arrivé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Composé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Présent de l’auxiliaire (avoir ou être) + Participe Pass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: un événement accompli, au pass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, “Cette semaine, j’ai beaucoup lu”, “j’ai lu” est au Passé Compos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 faut se rappeler des verbes qui utilisent être pour former ce temp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9:44:29Z</dcterms:created>
  <dc:creator>IT Dept</dc:creator>
  <dc:description/>
  <dc:language>en-US</dc:language>
  <cp:lastModifiedBy>Ministry of Education</cp:lastModifiedBy>
  <cp:lastPrinted>2009-06-01T09:23:41Z</cp:lastPrinted>
  <dcterms:modified xsi:type="dcterms:W3CDTF">2009-08-25T06:51:46Z</dcterms:modified>
  <cp:revision>45</cp:revision>
  <dc:subject/>
  <dc:title>Les temps français</dc:title>
</cp:coreProperties>
</file>